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D8C-D919-481F-B3C9-C8534814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E37-4FE1-4D93-8057-0D77A3D5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60A-4A17-4971-8C19-CCFC049A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D18-7ACF-4E03-B087-ADB3A399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3040-A47F-4A3D-8895-173AFABF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AB52-2C94-4032-8EDC-E2B88CFD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FEB7-FA92-4F7D-AFC6-3928E5CD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A38E-2E19-4B24-BD13-4EE17307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A1D2-1945-46DE-B58E-22783F7E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1156-7A04-4887-ABAC-A28252DD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533A-4E30-4E9C-A759-8D1D9F07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F0B-A7D8-4AB8-8151-BAD4F7BC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D9DA-0872-4F09-8C07-69D77F64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B413-09F2-4DFD-97D5-C7F174B8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60FE-8A9E-4B1C-9CC7-93C354B0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D130-255F-4F9E-B5EE-AA971006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F3B6-D149-43E6-B3A9-3C37C15F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C2583-B227-4028-AAFA-CA20D0F8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677A5-21BB-46D3-B5C4-3FCDF6C1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02D70-6108-426E-A76D-BC42F506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7622A-66F4-417A-96A0-86DB1556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05AFF-4489-493A-AA8B-0F1BD33B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7BE-1936-4917-BA87-77542423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B032B-481F-40B5-8CC9-5897BF62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13CED-B237-42A4-8AA7-0C1B27E6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140AC-6578-4ACC-BFBB-6A44FA21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6338C-8F8B-49F4-822E-F99D7C1E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6FF1D-4B3E-4A9F-ABC8-1D40709F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99A63-EA50-4B60-990B-7EC14D0F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49507-BDAE-49EF-AD50-420C51F1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969AF-EE77-4E54-98BA-0B0EAE9C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23BA5-9C3A-45DD-9F02-995840FE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1A416-EA65-4A66-A394-C9E449C0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8CD-7C5B-44A7-9FEB-C25D0D73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88E44-F2C4-4A0D-901C-8A276D66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0331D-6C53-4DEA-89B4-956AF038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57992-66CF-41F6-B247-74F7953F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58DE6-6A15-4571-8624-3A20E812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CAD7-2A36-4B1C-8EDE-37F23278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0B61-0FAB-4B8B-9C18-8497044E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2E7EA-0BD9-4AE1-B95B-9C48DA0A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0B178-0A18-49E8-947D-C34F580B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97C69-8247-425F-91F9-19385040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E0131-A824-4DC3-9A24-884D06FE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609-C4C5-4CC2-AD75-1F59B060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FBE1C-8D44-44A0-9131-FE4D4DED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6A338-AAA7-4D68-BCD3-87FFDB96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AEF29-CFD3-4AD6-AECA-B49B2BA5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45080-370E-4DB2-BA3F-165C71F0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DD052-D3AA-49C2-B1EE-80439CE6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F350F-2E56-4BE8-AD59-7C68ECC3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B0A53-B581-4DF2-B2AC-0CDDAD43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93481-1B00-420D-8B0D-306D1F90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A50E5-C7A7-4B5D-A21B-528FAFEA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A2B6A-FC76-48BB-A754-D62DCD85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8A9-7978-4502-94C8-534AEED0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47FF4-FA46-4320-817F-6E9E5925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69D5-6971-456D-A267-4199123D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598-B6E4-459E-B712-EB31EE5E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39F-122B-4F01-B301-9AF4117C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8FC3-EF26-4667-8AD1-E0B70D80FE7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DA16-0021-47F5-B63B-3986957E03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7E19-0D45-4275-BB38-BE9261FC144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DA1B-567C-415D-8D1B-5EE1DACB463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5473-BBB0-47E7-A27D-C239301AB98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Perpetua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Sports &amp; Entertainment Marke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0" name="Picture 2" descr="http://www.paulkiritsis.com/wp-content/uploads/2011/10/marketing-2.jpg"/>
          <p:cNvPicPr/>
          <p:nvPr/>
        </p:nvPicPr>
        <p:blipFill>
          <a:blip r:embed="rId1"/>
          <a:stretch/>
        </p:blipFill>
        <p:spPr>
          <a:xfrm>
            <a:off x="2743200" y="4038480"/>
            <a:ext cx="3127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 Now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5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o to MrsSantowasso.wikispaces.c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o to class p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pen Article “What is the Super Bowl Worth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ad the article, be prepared to discuss in cla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Picture 2" descr="http://www.footballbabble.com/images/superbowl-xlii.jpg"/>
          <p:cNvPicPr/>
          <p:nvPr/>
        </p:nvPicPr>
        <p:blipFill>
          <a:blip r:embed="rId1"/>
          <a:stretch/>
        </p:blipFill>
        <p:spPr>
          <a:xfrm>
            <a:off x="3124080" y="3651120"/>
            <a:ext cx="25146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Marketing?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process of developing, promoting, and distributing products, or goods and services, to satisfy customers’ needs and w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Picture 10" descr="http://peachebooks.com/yahoo_site_admin/assets/images/Needs_and_Wants.295221839_std.png"/>
          <p:cNvPicPr/>
          <p:nvPr/>
        </p:nvPicPr>
        <p:blipFill>
          <a:blip r:embed="rId1"/>
          <a:srcRect l="10060" t="13279" r="6915" b="12037"/>
          <a:stretch/>
        </p:blipFill>
        <p:spPr>
          <a:xfrm>
            <a:off x="2819520" y="3429000"/>
            <a:ext cx="35049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arketing Concept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dea that organizations need to satisfy their customers while also trying to reach their organizations’ go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2" descr="http://www.paranormalknowledge.com/wp-content/uploads/2009/07/money.jpg"/>
          <p:cNvPicPr/>
          <p:nvPr/>
        </p:nvPicPr>
        <p:blipFill>
          <a:blip r:embed="rId1"/>
          <a:stretch/>
        </p:blipFill>
        <p:spPr>
          <a:xfrm>
            <a:off x="2971800" y="29718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arget Marke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pecific group of consumers that an organization selects as the focus of its marketing pla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Picture 2" descr="http://www.entrepreneur-startup-guide.com/wp-content/uploads/2010/10/Target-Market.jpg"/>
          <p:cNvPicPr/>
          <p:nvPr/>
        </p:nvPicPr>
        <p:blipFill>
          <a:blip r:embed="rId1"/>
          <a:stretch/>
        </p:blipFill>
        <p:spPr>
          <a:xfrm>
            <a:off x="2590920" y="32004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mograph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tistics that describe a population in terms of personal characteristics. The most common demographic categories include age, income, occupation, gender, ethnic background, and educational level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5" name="Picture 2" descr="http://www.greenbuzzagency.com/wp-content/uploads/2010/08/demographics1-300x172.jpg"/>
          <p:cNvPicPr/>
          <p:nvPr/>
        </p:nvPicPr>
        <p:blipFill>
          <a:blip r:embed="rId1"/>
          <a:srcRect l="5329" t="9295" r="6664" b="11624"/>
          <a:stretch/>
        </p:blipFill>
        <p:spPr>
          <a:xfrm>
            <a:off x="2286000" y="3505320"/>
            <a:ext cx="4572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arketing Mix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7" name="Picture 2" descr="http://pauldunay.com/wp-content/uploads/2010/01/4ps.png"/>
          <p:cNvPicPr/>
          <p:nvPr/>
        </p:nvPicPr>
        <p:blipFill>
          <a:blip r:embed="rId1"/>
          <a:stretch/>
        </p:blipFill>
        <p:spPr>
          <a:xfrm>
            <a:off x="2590920" y="1523880"/>
            <a:ext cx="426708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reate a Collag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e the internet, magazines, newspapers..ect to create a collage of packaging you find appealing. Be prepared to explain your choo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Picture 2" descr="product packaging design"/>
          <p:cNvPicPr/>
          <p:nvPr/>
        </p:nvPicPr>
        <p:blipFill>
          <a:blip r:embed="rId1"/>
          <a:stretch/>
        </p:blipFill>
        <p:spPr>
          <a:xfrm>
            <a:off x="2057400" y="3048120"/>
            <a:ext cx="47624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1:19:36Z</dcterms:created>
  <dc:creator>Christina</dc:creator>
  <dc:description/>
  <dc:language>en-US</dc:language>
  <cp:lastModifiedBy>Christina</cp:lastModifiedBy>
  <dcterms:modified xsi:type="dcterms:W3CDTF">2012-01-31T02:01:31Z</dcterms:modified>
  <cp:revision>6</cp:revision>
  <dc:subject/>
  <dc:title>Sports &amp; Entertainment Marketing</dc:title>
</cp:coreProperties>
</file>